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9400-17ED-4EFA-BBA4-8B9554399DB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E564-0433-45B5-BE7D-5736EBCED4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0668-1733-499E-BB45-526C9AFBC75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B428-18DE-4C48-A0A1-D43C4AAB2AA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84C7B-40AA-41C0-AD1B-D3B5AB1FA2C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C139A-B815-44C6-89E4-B981D79FAD0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E5D0-D6E3-49D3-9769-A87674D6A81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7F39-0FE7-44F4-BEB9-184A4B939F1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0847-59C4-414A-8F1D-9E8128CFDF3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1BA9-A3F9-41FB-8443-886FEEDC376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5A23-EA0B-431B-97AE-A750D7F3C02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AC9E-2345-4891-BEB8-4C0A0104D49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56FB-8B78-45F3-AAFA-7C6A6D3B86A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1286-10F2-4F9C-BFFD-7488C99CD94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88B7-F638-46BC-B681-7757B9A8999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D784-1CBF-4684-B240-483F0BB9DDA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EA64-4849-4B85-A3F1-F95459E6F64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0FF4-F207-4AE1-97D3-14137F8E858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6986-9F1D-4A79-B85B-47901504E15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D35F-CD43-4B6E-BD68-4993436840C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AFB4D-6CDB-447B-AD00-D5D7C1F16D1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F83A-ED25-4911-9B70-50ACE4BB042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687D-69B6-4B52-AC96-395922B39AE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B9DAE-DE4A-4FC5-9CE0-723EEF1FA8A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9EE4-620F-4EE2-BBDD-4713B89B8FB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7813-CA7C-40F6-AF9B-2AE55C3F5F4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3B89-AE10-48D0-B0DE-B399082F045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0A4F-B000-49E4-BA2B-8BA40ADBB06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0ADF-C9DF-4EAB-8DB7-1480024ED36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A8F3-A3C0-488C-86EC-F0A737E2BA8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EB3B-1DED-49EE-A032-B1EEAD8A97C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7E09-5EA0-434D-8293-D7BDD00EF4B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A017-B653-43F4-BE0E-F1CE82E7CC4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A7ED-0431-41C3-AFDC-44957FCAF60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37CE-72AD-452E-A7FD-3488EA9F694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C9FF-2159-47A9-9B16-64C5BFFDDC4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89A44-E8DD-41EB-9D7E-99F101615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8F263-FEC1-4730-915D-501A9B42C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C2482-E6D4-4A8F-B7BF-3B2AEAC04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77787-4172-4994-8A88-F955B4DC5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EFC52-54F0-41F5-B186-EE1DC249D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EAD4A-C7A8-404E-BA86-99D70655A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9285D-9C93-4F00-A001-39477816A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20853-100B-43AB-AC3C-30F8AD266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54DE1-EF16-4020-9CCA-F7E5B7A4B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D3FEC-DC2B-4A80-AA18-D3135446D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50DB3-2B4E-4657-BA93-CD7242A24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9B6E8-D2F9-44E8-84E5-82AFEE021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7BB1-4848-4CAA-9EAE-2F03E40B54DB}"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Continuing Comprehension Teaching and Learn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143000" y="378576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oddon/Mallee October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HAT IS INDEPENDENT READING?</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Reading with 95% or higher accuracy rate and understanding what is being rea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1" lang="en-AU" sz="2800" spc="-1" strike="noStrike" u="sng">
                <a:solidFill>
                  <a:srgbClr val="009999"/>
                </a:solidFill>
                <a:uFillTx/>
                <a:latin typeface="Arial"/>
              </a:rPr>
              <a:t>SMART</a:t>
            </a:r>
            <a:r>
              <a:rPr b="0" lang="en-AU" sz="2800" spc="-1" strike="noStrike">
                <a:solidFill>
                  <a:srgbClr val="009999"/>
                </a:solidFill>
                <a:latin typeface="Arial"/>
              </a:rPr>
              <a:t> </a:t>
            </a:r>
            <a:r>
              <a:rPr b="0" lang="en-AU" sz="2800" spc="-1" strike="noStrike">
                <a:solidFill>
                  <a:srgbClr val="000000"/>
                </a:solidFill>
                <a:latin typeface="Arial"/>
              </a:rPr>
              <a:t>readers know how to select just right book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In your school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How often are students reading independently in all domai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re teachers conferring with students at this time to learn about students’ strengths and nee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Year 7 Classroom - view showing library area with magazines and newspapers"/>
          <p:cNvPicPr/>
          <p:nvPr/>
        </p:nvPicPr>
        <p:blipFill>
          <a:blip r:embed="rId1"/>
          <a:stretch/>
        </p:blipFill>
        <p:spPr>
          <a:xfrm>
            <a:off x="0" y="0"/>
            <a:ext cx="9612360" cy="67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Conferring</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o wi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to find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to find out – what assessment is sui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w to record for students and for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teaching is then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6600"/>
                </a:solidFill>
                <a:latin typeface="Arial"/>
              </a:rPr>
              <a:t>APPROPRIATE  ASSESSMENT (data)</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6ff"/>
                </a:solidFill>
                <a:latin typeface="Arial"/>
              </a:rPr>
              <a:t>	</a:t>
            </a:r>
            <a:r>
              <a:rPr b="0" lang="en-AU" sz="2400" spc="-1" strike="noStrike">
                <a:solidFill>
                  <a:srgbClr val="0066ff"/>
                </a:solidFill>
                <a:latin typeface="Arial"/>
              </a:rPr>
              <a:t>How is each component of the Reading Curriculum being assessed (to inform teach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level of difficulty is the text – is this increas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is appropriate for assessment of each?</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ading process – analysis of Running Record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mprehension – discussion/checklists (note that usual questioning only gives information about ability to find information directly in text or through inferr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luency – student reading aloud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ocabulary–discussion about meaning of words/phra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coding – Analysis of Running Records/student reading aloud; strategies used for spell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nge of reading – student log of re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Planning</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uring reading block or in English cla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ross all doma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pecific routines to assist compreh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Teaching</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lection of texts (level, range, genres, type of tex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am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mprehension (each strategy plus combination of strategies/metacogn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lu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cabul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co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pon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6600"/>
                </a:solidFill>
                <a:latin typeface="Arial"/>
              </a:rPr>
              <a:t> </a:t>
            </a:r>
            <a:r>
              <a:rPr b="0" lang="en-AU" sz="4000" spc="-1" strike="noStrike">
                <a:solidFill>
                  <a:srgbClr val="ff6600"/>
                </a:solidFill>
                <a:latin typeface="Arial"/>
              </a:rPr>
              <a:t>RECIPROCAL TEACHING – one routine using multiple strategies</a:t>
            </a:r>
            <a:endParaRPr b="0" lang="en-US" sz="4000" spc="-1" strike="noStrike">
              <a:solidFill>
                <a:srgbClr val="000000"/>
              </a:solidFill>
              <a:latin typeface="Arial"/>
            </a:endParaRPr>
          </a:p>
        </p:txBody>
      </p:sp>
      <p:sp>
        <p:nvSpPr>
          <p:cNvPr id="8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volves using:</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6ff"/>
                </a:solidFill>
                <a:latin typeface="Arial"/>
              </a:rPr>
              <a:t>Predic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arifying meaning (</a:t>
            </a:r>
            <a:r>
              <a:rPr b="0" lang="en-AU" sz="2800" spc="-1" strike="noStrike">
                <a:solidFill>
                  <a:srgbClr val="0066ff"/>
                </a:solidFill>
                <a:latin typeface="Arial"/>
              </a:rPr>
              <a:t>questioning</a:t>
            </a:r>
            <a:r>
              <a:rPr b="0" lang="en-A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6ff"/>
                </a:solidFill>
                <a:latin typeface="Arial"/>
              </a:rPr>
              <a:t>Questioning</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6ff"/>
                </a:solidFill>
                <a:latin typeface="Arial"/>
              </a:rPr>
              <a:t>Summaris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Research: 20 sessions will assist struggling readers to improve reading by at least 1.5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Question-Answer-Relationship </a:t>
            </a:r>
            <a:r>
              <a:rPr b="1" lang="en-AU" sz="3200" spc="-1" strike="noStrike">
                <a:solidFill>
                  <a:srgbClr val="000000"/>
                </a:solidFill>
                <a:latin typeface="Arial"/>
              </a:rPr>
              <a:t>(QAR)</a:t>
            </a:r>
            <a:br>
              <a:rPr sz="4000"/>
            </a:b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sists students to figure out how to go about answering questions being asked about a given text.</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cuses on the relationship that exists between the question, the text, and the background knowledge of the reader.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are taught to use four question/answer relationships (QARs) to find the information needed to answer a question –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Right There (in the text - literal – detail)</a:t>
            </a:r>
            <a:r>
              <a:rPr b="0" lang="en-AU"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Think and Search (in the text - some searching and cross text connections required)</a:t>
            </a:r>
            <a:r>
              <a:rPr b="0" lang="en-AU"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uthor and me</a:t>
            </a:r>
            <a:r>
              <a:rPr b="0" lang="en-AU" sz="2000" spc="-1" strike="noStrike">
                <a:solidFill>
                  <a:srgbClr val="000000"/>
                </a:solidFill>
                <a:latin typeface="Arial"/>
              </a:rPr>
              <a:t> (</a:t>
            </a:r>
            <a:r>
              <a:rPr b="0" i="1" lang="en-AU" sz="2000" spc="-1" strike="noStrike">
                <a:solidFill>
                  <a:srgbClr val="000000"/>
                </a:solidFill>
                <a:latin typeface="Arial"/>
              </a:rPr>
              <a:t>comes from student’s background knowledge, but students need to have read and understood the text – inferential)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On My Own (relates to text, but the student could answer even if they had never read the text - ideas and information come from student’s background knowled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tretch/>
        </p:blipFill>
        <p:spPr>
          <a:xfrm>
            <a:off x="-36360" y="0"/>
            <a:ext cx="5229000" cy="6858000"/>
          </a:xfrm>
          <a:prstGeom prst="rect">
            <a:avLst/>
          </a:prstGeom>
          <a:ln w="0">
            <a:noFill/>
          </a:ln>
        </p:spPr>
      </p:pic>
      <p:pic>
        <p:nvPicPr>
          <p:cNvPr id="84" name="Picture 3" descr=""/>
          <p:cNvPicPr/>
          <p:nvPr/>
        </p:nvPicPr>
        <p:blipFill>
          <a:blip r:embed="rId2"/>
          <a:stretch/>
        </p:blipFill>
        <p:spPr>
          <a:xfrm>
            <a:off x="5762520" y="404640"/>
            <a:ext cx="3191040" cy="6048720"/>
          </a:xfrm>
          <a:prstGeom prst="rect">
            <a:avLst/>
          </a:prstGeom>
          <a:ln w="0">
            <a:noFill/>
          </a:ln>
        </p:spPr>
      </p:pic>
      <p:sp>
        <p:nvSpPr>
          <p:cNvPr id="85" name="AutoShape 4"/>
          <p:cNvSpPr/>
          <p:nvPr/>
        </p:nvSpPr>
        <p:spPr>
          <a:xfrm>
            <a:off x="5796000" y="404640"/>
            <a:ext cx="3168720" cy="6120000"/>
          </a:xfrm>
          <a:prstGeom prst="wedgeRectCallout">
            <a:avLst>
              <a:gd name="adj1" fmla="val -66430"/>
              <a:gd name="adj2" fmla="val -18092"/>
            </a:avLst>
          </a:prstGeom>
          <a:noFill/>
          <a:ln w="15840">
            <a:solidFill>
              <a:srgbClr val="99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5"/>
          <p:cNvSpPr/>
          <p:nvPr/>
        </p:nvSpPr>
        <p:spPr>
          <a:xfrm>
            <a:off x="0" y="27000"/>
            <a:ext cx="5219640" cy="68072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VOCABULAR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de readin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stablishment of an environment that promotes word conscious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plicit instruction of word learning strategies: selection of words, context clues, meaning of word parts, multiple resources, discussion with others, realisation that words have multiple meanings – which is most suitab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AU" sz="4000" spc="-1" strike="noStrike">
                <a:solidFill>
                  <a:srgbClr val="000000"/>
                </a:solidFill>
                <a:latin typeface="Arial"/>
              </a:rPr>
              <a:t>Agenda</a:t>
            </a:r>
            <a:br>
              <a:rPr sz="4000"/>
            </a:b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vision</a:t>
            </a:r>
            <a:br>
              <a:rPr sz="2000"/>
            </a:br>
            <a:r>
              <a:rPr b="0" lang="en-AU" sz="2000" spc="-1" strike="noStrike">
                <a:solidFill>
                  <a:srgbClr val="000000"/>
                </a:solidFill>
                <a:latin typeface="Arial"/>
              </a:rPr>
              <a:t>comprehension strategies</a:t>
            </a:r>
            <a:br>
              <a:rPr sz="2000"/>
            </a:br>
            <a:r>
              <a:rPr b="0" lang="en-AU" sz="2000" spc="-1" strike="noStrike">
                <a:solidFill>
                  <a:srgbClr val="000000"/>
                </a:solidFill>
                <a:latin typeface="Arial"/>
              </a:rPr>
              <a:t>reading curriculum</a:t>
            </a:r>
            <a:br>
              <a:rPr sz="2000"/>
            </a:br>
            <a:r>
              <a:rPr b="0" lang="en-AU" sz="2000" spc="-1" strike="noStrike">
                <a:solidFill>
                  <a:srgbClr val="000000"/>
                </a:solidFill>
                <a:latin typeface="Arial"/>
              </a:rPr>
              <a:t>gradual release of responsibility</a:t>
            </a:r>
            <a:br>
              <a:rPr sz="2000"/>
            </a:br>
            <a:r>
              <a:rPr b="0" lang="en-AU" sz="2000" spc="-1" strike="noStrike">
                <a:solidFill>
                  <a:srgbClr val="000000"/>
                </a:solidFill>
                <a:latin typeface="Arial"/>
              </a:rPr>
              <a:t>independent reading (see checklist)</a:t>
            </a:r>
            <a:br>
              <a:rPr sz="2000"/>
            </a:br>
            <a:r>
              <a:rPr b="0" lang="en-AU" sz="2000" spc="-1" strike="noStrike">
                <a:solidFill>
                  <a:srgbClr val="000000"/>
                </a:solidFill>
                <a:latin typeface="Arial"/>
              </a:rPr>
              <a:t>classroom/area library (see checkli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conferring with students/appropriate assess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sponsibility of teaching years 5-7 (What is definitely known about comprehension instru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anning/differentiated instruction/all domai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rehension routines – RT, QAR, SQ3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cabul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luen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co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here to nex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distillation"/>
          <p:cNvPicPr/>
          <p:nvPr/>
        </p:nvPicPr>
        <p:blipFill>
          <a:blip r:embed="rId1"/>
          <a:stretch/>
        </p:blipFill>
        <p:spPr>
          <a:xfrm>
            <a:off x="1996920" y="0"/>
            <a:ext cx="5148360" cy="6858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FLUENCY</a:t>
            </a:r>
            <a:r>
              <a:rPr b="0" lang="en-AU" sz="4000" spc="-1" strike="noStrike">
                <a:solidFill>
                  <a:srgbClr val="000000"/>
                </a:solidFill>
                <a:latin typeface="Arial"/>
              </a:rPr>
              <a:t> </a:t>
            </a:r>
            <a:r>
              <a:rPr b="0" lang="en-AU" sz="3200" spc="-1" strike="noStrike">
                <a:solidFill>
                  <a:srgbClr val="000000"/>
                </a:solidFill>
                <a:latin typeface="Arial"/>
              </a:rPr>
              <a:t>(rate, phrasing, expression)</a:t>
            </a:r>
            <a:endParaRPr b="0"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peated readings by student, firstly listening, then reading with, then independent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uthentic oral reading experiences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radio reading/webcasts, Shared Reading, choral reading, Readers Theatre, poetry club, rehearsed Read Aloud to an audience, paired reading, read along with CDs/DVDs/ip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ngel with a Mouth –Organ </a:t>
            </a:r>
            <a:br>
              <a:rPr sz="2400"/>
            </a:br>
            <a:r>
              <a:rPr b="0" lang="en-AU" sz="2400" spc="-1" strike="noStrike">
                <a:solidFill>
                  <a:srgbClr val="000000"/>
                </a:solidFill>
                <a:latin typeface="Arial"/>
              </a:rPr>
              <a:t>by Christobel Mattingley</a:t>
            </a:r>
            <a:endParaRPr b="0" lang="en-US" sz="2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i="1" lang="en-AU" sz="1800" spc="-1" strike="noStrike">
                <a:solidFill>
                  <a:srgbClr val="000000"/>
                </a:solidFill>
                <a:latin typeface="Arial"/>
              </a:rPr>
              <a:t>We had put the baubles, the tinsel, the lights on the Christmas tre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The angel was always last of al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	</a:t>
            </a:r>
            <a:r>
              <a:rPr b="0" i="1" lang="en-AU" sz="1800" spc="-1" strike="noStrike">
                <a:solidFill>
                  <a:srgbClr val="000000"/>
                </a:solidFill>
                <a:latin typeface="Arial"/>
              </a:rPr>
              <a:t>Peter and Ingrid started to argue and grab at its box.</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a:t>
            </a:r>
            <a:r>
              <a:rPr b="0" i="1" lang="en-AU" sz="1800" spc="-1" strike="noStrike">
                <a:solidFill>
                  <a:srgbClr val="000000"/>
                </a:solidFill>
                <a:latin typeface="Arial"/>
              </a:rPr>
              <a:t>It’s my tur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a:t>
            </a:r>
            <a:r>
              <a:rPr b="0" i="1" lang="en-AU" sz="1800" spc="-1" strike="noStrike">
                <a:solidFill>
                  <a:srgbClr val="000000"/>
                </a:solidFill>
                <a:latin typeface="Arial"/>
              </a:rPr>
              <a:t>You did it last ye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a:t>
            </a:r>
            <a:r>
              <a:rPr b="0" i="1" lang="en-AU" sz="1800" spc="-1" strike="noStrike">
                <a:solidFill>
                  <a:srgbClr val="000000"/>
                </a:solidFill>
                <a:latin typeface="Arial"/>
              </a:rPr>
              <a:t>I’m taller, so I can reach bett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a:t>
            </a:r>
            <a:r>
              <a:rPr b="0" i="1" lang="en-AU" sz="1800" spc="-1" strike="noStrike">
                <a:solidFill>
                  <a:srgbClr val="000000"/>
                </a:solidFill>
                <a:latin typeface="Arial"/>
              </a:rPr>
              <a:t>It’s not fa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I said, “Hand pi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Peter put down his right hand. Ingrid put hers on top, I covered Ingrid’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Peter covered mine and said, “Sorry, Mu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Ingrid covered Peter’s and said, “You will tell us the angel story again, won’t yo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Inside the box the little glass angel with the golden wing shone like a star against the cotton woo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r>
              <a:rPr b="0" i="1" lang="en-AU" sz="1800" spc="-1" strike="noStrike">
                <a:solidFill>
                  <a:srgbClr val="000000"/>
                </a:solidFill>
                <a:latin typeface="Arial"/>
              </a:rPr>
              <a:t>I thought of the baby doll wrapped ready for Ingrid to find on Christmas morning, and the baby growing in my tummy, which Peter hoped would be a broth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1800" spc="-1" strike="noStrike">
                <a:solidFill>
                  <a:srgbClr val="000000"/>
                </a:solidFill>
                <a:latin typeface="Arial"/>
              </a:rPr>
              <a:t>It started the year I wanted a baby doll. I’d hoped for a real baby, like our neighbour had. My mother wouldn’t promise. So I asked for a doll instea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But long before St Nicholas could bring one, out of the clouds the planes came, with noise like thunder and flashes like lightn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They flew across our village. It became a garden of flame. The houses and the haystacks were like poppies, bursting out of their buds into glowing gold and orange. The church spire and the chimneys were like spikes of scarlet salvi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When all the petals of flame had fallen at last, the village was like a skeleton. Buildings were black, animals were dead, people had disappeared. The earth was bare and burnt. But in the hearts of the people who were left the fire flowers had dropped their seeds – of fear and of hate, of courage and of l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1800" spc="-1" strike="noStrike">
                <a:solidFill>
                  <a:srgbClr val="000000"/>
                </a:solidFill>
                <a:latin typeface="Arial"/>
              </a:rPr>
              <a:t>After the planes the soldiers came. They took away fathers, brothers, sons. But they didn’t take our father. He laughed, “They don’t want a one-armed bear in their circus!” And he hugged us with the arm he had left, almost as hard as he used to hug when he had both arms, before the planes c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Arial"/>
              </a:rPr>
              <a:t>DECODING</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What is the most appropriate way to use knowledge of phonics for the following wo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enfranchi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Which words should students automatically be able to r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nk to spel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Eurostile"/>
              </a:rPr>
              <a:t>Effective teachers of comprehension </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comprehension strategies</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eaching with a variety of text types</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eaching and learning using a gradual release of responsibility model</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at comprehension teaching does not stand alone (fluency, decoding, vocabulary &amp; world knowledge influence comprehension)</a:t>
            </a:r>
            <a:endParaRPr b="0" lang="en-US" sz="2800" spc="-1" strike="noStrike">
              <a:solidFill>
                <a:srgbClr val="000000"/>
              </a:solidFill>
              <a:latin typeface="Arial"/>
            </a:endParaRPr>
          </a:p>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urostile"/>
              </a:rPr>
              <a:t>Comprehension Strategi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on/Prior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lo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Structure and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sing and Visual Re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mmari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LL YEAR  LEVELS and fo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The Reading Curriculum</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Using a range of “texts” (a variety of fiction and factual genres), the reading curriculum includes the teaching and learning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reading process – sampling the text, predicting the content and continually confirming or self-correcting and using syntactic, semantic, graphophonic cues to construct mean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rehension strategies – predicting/prior knowledge, questioning, thinking-aloud, using text structures and features, visualising, summari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ocabulary (affected by world knowled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luency – expression, phrasing, r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coding (not just “sounding 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sponse to rea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w to select appropriate (“just right”) texts for independent reading and about the selection of easy or challenging texts for a range of purpos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Responsibilities of teaching years 5-7</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a:t>
            </a:r>
            <a:r>
              <a:rPr b="0" lang="en-AU" sz="2800" spc="-1" strike="noStrike">
                <a:solidFill>
                  <a:srgbClr val="0066ff"/>
                </a:solidFill>
                <a:latin typeface="Arial"/>
              </a:rPr>
              <a:t>students</a:t>
            </a:r>
            <a:endParaRPr b="0" lang="en-US" sz="2800" spc="-1" strike="noStrike">
              <a:solidFill>
                <a:srgbClr val="000000"/>
              </a:solidFill>
              <a:latin typeface="Arial"/>
            </a:endParaRPr>
          </a:p>
          <a:p>
            <a:pPr marL="343080" indent="-343080">
              <a:lnSpc>
                <a:spcPct val="90000"/>
              </a:lnSpc>
              <a:spcBef>
                <a:spcPts val="700"/>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cc00"/>
                </a:solidFill>
                <a:latin typeface="Arial"/>
              </a:rPr>
              <a:t>Reading is enjoyable – establishing a reading hab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for n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for the future years – for lif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information to pass on – h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So what is known about what we should be do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rticle – SQ3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SQ3R </a:t>
            </a:r>
            <a:r>
              <a:rPr b="0" lang="en-AU" sz="4000" spc="-1" strike="noStrike">
                <a:solidFill>
                  <a:srgbClr val="000000"/>
                </a:solidFill>
                <a:latin typeface="Arial"/>
              </a:rPr>
              <a:t>(Survey, Question, Read, Recall/Recite, Review)</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specially useful for learning how to deal with formal assessments with questions student has to provide answers f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 strategies used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Survey” - predict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t>
            </a:r>
            <a:r>
              <a:rPr b="0" lang="en-AU" sz="2800" spc="-1" strike="noStrike">
                <a:solidFill>
                  <a:srgbClr val="000000"/>
                </a:solidFill>
                <a:latin typeface="Arial"/>
              </a:rPr>
              <a:t>Ques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Read” – actively able to use comprehension strategies such as predicting, using text structures, visualising, summaris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691920"/>
            <a:ext cx="821844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dual release of responsibility </a:t>
            </a:r>
            <a:endParaRPr b="0" lang="en-US" sz="4000" spc="-1" strike="noStrike">
              <a:solidFill>
                <a:srgbClr val="000000"/>
              </a:solidFill>
              <a:latin typeface="Arial"/>
            </a:endParaRPr>
          </a:p>
        </p:txBody>
      </p:sp>
      <p:sp>
        <p:nvSpPr>
          <p:cNvPr id="63"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Read aloud</a:t>
            </a:r>
            <a:r>
              <a:rPr b="0" lang="en-AU" sz="2800" spc="-1" strike="noStrike">
                <a:solidFill>
                  <a:srgbClr val="000000"/>
                </a:solidFill>
                <a:latin typeface="Arial"/>
              </a:rPr>
              <a:t> –TO students, with explicit demonstration of purposes and strategies</a:t>
            </a:r>
            <a:r>
              <a:rPr b="0" lang="en-AU" sz="2800" spc="-1" strike="noStrike">
                <a:solidFill>
                  <a:srgbClr val="ff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Shared reading</a:t>
            </a:r>
            <a:r>
              <a:rPr b="0" lang="en-AU" sz="2800" spc="-1" strike="noStrike">
                <a:solidFill>
                  <a:srgbClr val="000000"/>
                </a:solidFill>
                <a:latin typeface="Arial"/>
              </a:rPr>
              <a:t> – WITH students, collaboratively working on strategie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Guided reading</a:t>
            </a:r>
            <a:r>
              <a:rPr b="0" lang="en-AU" sz="2800" spc="-1" strike="noStrike">
                <a:solidFill>
                  <a:srgbClr val="000000"/>
                </a:solidFill>
                <a:latin typeface="Arial"/>
              </a:rPr>
              <a:t> – WITH &amp; BY students (supported with scaffolds – needs and strengths assessed during the independent reading time, reinforcing effective strategie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Arial"/>
              </a:rPr>
              <a:t>Independent reading</a:t>
            </a:r>
            <a:r>
              <a:rPr b="0" lang="en-AU" sz="2800" spc="-1" strike="noStrike">
                <a:solidFill>
                  <a:srgbClr val="000000"/>
                </a:solidFill>
                <a:latin typeface="Arial"/>
              </a:rPr>
              <a:t> – BY students (teacher confers with students – this is the real data that informs teach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SEARCH</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veral studies have produced consistent findings showing positive correlations between the volume of independent reading and reading comprehension and vocabulary develop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llington, Richard.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4:06:55Z</dcterms:created>
  <dc:creator>Diane Snnowball</dc:creator>
  <dc:description/>
  <dc:language>en-US</dc:language>
  <cp:lastModifiedBy>Diane</cp:lastModifiedBy>
  <dcterms:modified xsi:type="dcterms:W3CDTF">2009-10-13T21:41:41Z</dcterms:modified>
  <cp:revision>24</cp:revision>
  <dc:subject/>
  <dc:title>Continuing Comprehension Teaching and Learning</dc:title>
</cp:coreProperties>
</file>